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DD41-C05C-4522-BE06-BF903C04A3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2DC-C235-49B7-97D9-49A1D0F9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949-FF22-4954-BD93-8509A194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FD2-7535-4641-BA50-CD563E06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E35-7779-487E-A5B1-0F1D4E56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83D-2A91-4253-962C-53D95028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43C-4E30-422A-88DF-8A439B98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B9D-13DA-41B7-83DF-DB1E9C7B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147-6786-4447-9B9A-65820415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E7F-EE51-43F9-9FC5-6AF9556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D21-FED5-4B99-B3EB-A4C6C6B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DC4-0511-473C-8F26-A287CFD9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F25-6D47-42DE-8EC1-B4F2833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0A53-11EF-4425-A3DE-D2B9FF5D09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09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等可能性事件的概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813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类型一：抛掷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页练习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后抛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枚均匀的硬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共可能出现多少种不同的结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现“一枚正面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枚反面”的结果有多少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现“一枚正面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枚反面”的概率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人说，一共可能出现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枚正面”、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枚反面”、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枚正面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枚反面”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结果，所以出现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枚正面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枚反面”的概率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924680" y="5334120"/>
          <a:ext cx="2160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334120"/>
                    <a:ext cx="21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将一枚硬币连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，出现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正面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反面”和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正面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反面”的概率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将骰子先后抛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，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共有多少种不同的结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向上的数之和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果有多少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上的数之和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概率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059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162920" y="4191120"/>
          <a:ext cx="91440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191120"/>
                    <a:ext cx="914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09480" y="4952880"/>
            <a:ext cx="72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一想：在这个问题中，出现向上的数之和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倍数的概率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5880" y="5486400"/>
          <a:ext cx="3762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486400"/>
                    <a:ext cx="376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等可能性事件的概率的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复阅读题目，收集整理题目中各种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判断试验是否属于等可能性事件，并用字母表示所求事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62120" y="3200400"/>
            <a:ext cx="8229600" cy="1068840"/>
            <a:chOff x="762120" y="3200400"/>
            <a:chExt cx="8229600" cy="1068840"/>
          </a:xfrm>
        </p:grpSpPr>
        <p:sp>
          <p:nvSpPr>
            <p:cNvPr id="145" name=""/>
            <p:cNvSpPr/>
            <p:nvPr/>
          </p:nvSpPr>
          <p:spPr>
            <a:xfrm>
              <a:off x="762120" y="3200400"/>
              <a:ext cx="822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利用排列组合等有关知识计算基本事件总个数      和事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包含的基本事件的个数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1828800" y="3809880"/>
            <a:ext cx="34596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809880"/>
                      <a:ext cx="34596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7848720" y="3733920"/>
            <a:ext cx="457200" cy="38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48720" y="3733920"/>
                      <a:ext cx="45720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0" name=""/>
          <p:cNvGrpSpPr/>
          <p:nvPr/>
        </p:nvGrpSpPr>
        <p:grpSpPr>
          <a:xfrm>
            <a:off x="1409400" y="4267080"/>
            <a:ext cx="5065920" cy="838440"/>
            <a:chOff x="1409400" y="4267080"/>
            <a:chExt cx="5065920" cy="838440"/>
          </a:xfrm>
        </p:grpSpPr>
        <p:graphicFrame>
          <p:nvGraphicFramePr>
            <p:cNvPr id="151" name=""/>
            <p:cNvGraphicFramePr/>
            <p:nvPr/>
          </p:nvGraphicFramePr>
          <p:xfrm>
            <a:off x="6095880" y="4267080"/>
            <a:ext cx="379440" cy="838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4267080"/>
                      <a:ext cx="37944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1409400" y="4343400"/>
              <a:ext cx="420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⑷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计算事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概率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P(A)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型二：摸球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本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3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页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个口袋内装有大小相等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白球和已编有不同号码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黑球，从中摸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共有多少种不同的结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摸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黑球有多少种不同的结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摸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黑球的概率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943600" y="2590920"/>
          <a:ext cx="99072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907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696080" y="3119400"/>
          <a:ext cx="9907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3119400"/>
                    <a:ext cx="9907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400800" y="3657600"/>
          <a:ext cx="167652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657600"/>
                    <a:ext cx="1676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口袋里共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红球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黄球，从中随机地连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球，每次取一个球。记“恰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红球”为事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在下列情况下求事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概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放回抽取     ⑵每次取后放回再抽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41400" y="2438280"/>
            <a:ext cx="2678040" cy="1096920"/>
            <a:chOff x="1841400" y="2438280"/>
            <a:chExt cx="2678040" cy="1096920"/>
          </a:xfrm>
        </p:grpSpPr>
        <p:graphicFrame>
          <p:nvGraphicFramePr>
            <p:cNvPr id="163" name=""/>
            <p:cNvGraphicFramePr/>
            <p:nvPr/>
          </p:nvGraphicFramePr>
          <p:xfrm>
            <a:off x="1841400" y="2971800"/>
            <a:ext cx="1265040" cy="56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41400" y="2971800"/>
                      <a:ext cx="126504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3995640" y="2438280"/>
              <a:ext cx="52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解：⑴因为不放回抽取，所以基本事件总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914400" y="44956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19320" y="3581280"/>
            <a:ext cx="7391160" cy="581400"/>
            <a:chOff x="1219320" y="3581280"/>
            <a:chExt cx="7391160" cy="581400"/>
          </a:xfrm>
        </p:grpSpPr>
        <p:sp>
          <p:nvSpPr>
            <p:cNvPr id="168" name=""/>
            <p:cNvSpPr/>
            <p:nvPr/>
          </p:nvSpPr>
          <p:spPr>
            <a:xfrm>
              <a:off x="1219320" y="3581280"/>
              <a:ext cx="739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事件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包含的基本事件的个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6477120" y="3581280"/>
            <a:ext cx="1676160" cy="52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7120" y="3581280"/>
                      <a:ext cx="167616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1" name=""/>
          <p:cNvGraphicFramePr/>
          <p:nvPr/>
        </p:nvGraphicFramePr>
        <p:xfrm>
          <a:off x="1163520" y="4267080"/>
          <a:ext cx="3311640" cy="10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4267080"/>
                    <a:ext cx="331164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184400" y="5464080"/>
          <a:ext cx="35748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4400" y="5464080"/>
                    <a:ext cx="35748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七：尝试解答高考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200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辽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设袋中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只红球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白球，若从袋中任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球，则其中恰 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红球的概率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                                    B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                                     D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76520" y="3124080"/>
          <a:ext cx="106668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124080"/>
                    <a:ext cx="10666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867280" y="3048120"/>
          <a:ext cx="106704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048120"/>
                    <a:ext cx="1067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00200" y="4419720"/>
          <a:ext cx="106668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41972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943600" y="4495680"/>
          <a:ext cx="106668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4495680"/>
                    <a:ext cx="10666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95288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200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福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一个口袋中装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白球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黑球，这些球除颜色外完全相同，从中摸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球，至少摸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黑球的概率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            B                 C                D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57440" y="2895480"/>
          <a:ext cx="3236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2895480"/>
                    <a:ext cx="32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270240" y="2895480"/>
          <a:ext cx="2970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0240" y="2895480"/>
                    <a:ext cx="297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473800" y="2819520"/>
          <a:ext cx="32364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2819520"/>
                    <a:ext cx="323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089840" y="2819520"/>
          <a:ext cx="4586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9840" y="2819520"/>
                    <a:ext cx="458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2096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200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广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先后抛掷两枚均匀的正方体骰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它们的六个面分别标有点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骰子朝上的面上点数分别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则                     的概率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                B                 C               D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352680" y="2209680"/>
          <a:ext cx="1828800" cy="5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09680"/>
                    <a:ext cx="18288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676520" y="3200400"/>
          <a:ext cx="3236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200400"/>
                    <a:ext cx="323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646440" y="3124080"/>
          <a:ext cx="5000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6440" y="3124080"/>
                    <a:ext cx="500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565600" y="3124080"/>
          <a:ext cx="47016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5600" y="3124080"/>
                    <a:ext cx="470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7358040" y="3124080"/>
          <a:ext cx="35388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58040" y="3124080"/>
                    <a:ext cx="353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3915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八：课堂小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等可能性事件的两个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次试验出现的结果是有限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一种结果出现的可能性都相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什么是基本事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38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一次试验连同其中可能出现的每一个结果称为一个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基本事件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4640" y="342900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如何求等可能性事件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概率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4800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计算等可能性事件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概率的步骤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33412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计算所有基本事件的总结果数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69736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计算事件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所包含的结果数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85800" y="6019920"/>
            <a:ext cx="6781680" cy="1245240"/>
            <a:chOff x="685800" y="6019920"/>
            <a:chExt cx="6781680" cy="1245240"/>
          </a:xfrm>
        </p:grpSpPr>
        <p:sp>
          <p:nvSpPr>
            <p:cNvPr id="214" name=""/>
            <p:cNvSpPr/>
            <p:nvPr/>
          </p:nvSpPr>
          <p:spPr>
            <a:xfrm>
              <a:off x="685800" y="6095880"/>
              <a:ext cx="6781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(3)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计算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P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352680" y="6019920"/>
                  <a:ext cx="4381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685800" y="3809880"/>
            <a:ext cx="8153280" cy="1143000"/>
            <a:chOff x="685800" y="3809880"/>
            <a:chExt cx="8153280" cy="1143000"/>
          </a:xfrm>
        </p:grpSpPr>
        <p:sp>
          <p:nvSpPr>
            <p:cNvPr id="217" name=""/>
            <p:cNvSpPr/>
            <p:nvPr/>
          </p:nvSpPr>
          <p:spPr>
            <a:xfrm>
              <a:off x="685800" y="3809880"/>
              <a:ext cx="815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等可能性事件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的概率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P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）等于事件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所含的基本事件数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m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与所有基本事件总数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n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的比值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8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即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P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2800" spc="-1" strike="noStrike">
                  <a:solidFill>
                    <a:srgbClr val="cc66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8381880" y="4191120"/>
            <a:ext cx="341280" cy="76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1880" y="4191120"/>
                      <a:ext cx="34128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16720" y="53352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习提问：随机事件的概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03000" y="10666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可通过大量重复试验求得其近似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733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率的定义，实际上也是求一个事件的概率的基本方法：进行大量重复试验，用这个事件发生的频率近似地作为它的概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3520" y="1752480"/>
            <a:ext cx="8229600" cy="1143000"/>
            <a:chOff x="533520" y="1752480"/>
            <a:chExt cx="8229600" cy="1143000"/>
          </a:xfrm>
        </p:grpSpPr>
        <p:sp>
          <p:nvSpPr>
            <p:cNvPr id="53" name=""/>
            <p:cNvSpPr/>
            <p:nvPr/>
          </p:nvSpPr>
          <p:spPr>
            <a:xfrm>
              <a:off x="533520" y="1752480"/>
              <a:ext cx="822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在大量重复进行同一试验时，事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发生的频率        总是接近于某个常数，在它附近摆动，这个常数叫事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概率。记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P(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1371600" y="2057400"/>
            <a:ext cx="378000" cy="83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057400"/>
                      <a:ext cx="37800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现问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一：要进行大量重复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二：只能求出概率的近似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率是一个确定的常数，而频率是随着试验次数的变化而变化，试验的次数越多，频率越接近于事件的概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：探索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否通过一次试验，就计算出事件的概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索一：抛掷一枚均匀的硬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能出现的结果有：“正面向上”、“反面向上”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情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0920" y="3429000"/>
            <a:ext cx="8076960" cy="733680"/>
            <a:chOff x="250920" y="3429000"/>
            <a:chExt cx="8076960" cy="733680"/>
          </a:xfrm>
        </p:grpSpPr>
        <p:sp>
          <p:nvSpPr>
            <p:cNvPr id="59" name=""/>
            <p:cNvSpPr/>
            <p:nvPr/>
          </p:nvSpPr>
          <p:spPr>
            <a:xfrm>
              <a:off x="250920" y="3581280"/>
              <a:ext cx="80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可以认为出现： “正面向上”的概率是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7108560" y="3429000"/>
            <a:ext cx="3981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08560" y="3429000"/>
                      <a:ext cx="3981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395280" y="52293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与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提供的大量重复试验的结果是一致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48480" y="4292640"/>
            <a:ext cx="5159520" cy="685800"/>
            <a:chOff x="1248480" y="4292640"/>
            <a:chExt cx="5159520" cy="685800"/>
          </a:xfrm>
        </p:grpSpPr>
        <p:graphicFrame>
          <p:nvGraphicFramePr>
            <p:cNvPr id="64" name=""/>
            <p:cNvGraphicFramePr/>
            <p:nvPr/>
          </p:nvGraphicFramePr>
          <p:xfrm>
            <a:off x="5658120" y="4292640"/>
            <a:ext cx="3985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8120" y="4292640"/>
                      <a:ext cx="3985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1248480" y="4368960"/>
              <a:ext cx="515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4" marL="182880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出现： “反面向上”的概率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索二：抛掷一个均匀的骰子它落地时向上的数可能是情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一，可能出现的结果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276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索三：抛掷一个均匀的骰子，骰子落地时向上的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倍数的概率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520" y="1981080"/>
            <a:ext cx="8076600" cy="1144800"/>
            <a:chOff x="533520" y="1981080"/>
            <a:chExt cx="8076600" cy="1144800"/>
          </a:xfrm>
        </p:grpSpPr>
        <p:sp>
          <p:nvSpPr>
            <p:cNvPr id="70" name=""/>
            <p:cNvSpPr/>
            <p:nvPr/>
          </p:nvSpPr>
          <p:spPr>
            <a:xfrm>
              <a:off x="533520" y="2057040"/>
              <a:ext cx="8076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可以认为每一种结果的概率都是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种分析与大量重复试验的结果是一致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6610320" y="1981080"/>
            <a:ext cx="2448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10320" y="1981080"/>
                      <a:ext cx="2448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" name=""/>
          <p:cNvSpPr/>
          <p:nvPr/>
        </p:nvSpPr>
        <p:spPr>
          <a:xfrm>
            <a:off x="324000" y="45086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：“向上的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倍数”  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两种情形之一出现，记 “向上的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倍数”为事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(A)=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649600" y="5521320"/>
          <a:ext cx="2268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9600" y="5521320"/>
                    <a:ext cx="226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564000" y="5445000"/>
          <a:ext cx="2332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445000"/>
                    <a:ext cx="233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索四：抛掷硬币、抛掷骰子这些试验有什么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73880" y="2514600"/>
            <a:ext cx="32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一个结果出现的可能性都相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可能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55960" y="190512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次试验出现的结果是有限的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    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0120" y="1981080"/>
          <a:ext cx="34596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981080"/>
                    <a:ext cx="345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：等可能性事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一次试验出现的结果是有限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每一个结果出现的可能性都相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下列事件哪些是等可能性事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掷一枚均匀硬币正面朝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掷一个骰子，向上的数是偶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掷一枚图钉，钉尖朝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射手射击一次中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袋中有大小相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白球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黑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中摸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等可能性事件的概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次试验连同其中可能出现的每一个结果称为一个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基本事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4360" y="2565360"/>
            <a:ext cx="7619760" cy="581400"/>
            <a:chOff x="684360" y="2565360"/>
            <a:chExt cx="7619760" cy="581400"/>
          </a:xfrm>
        </p:grpSpPr>
        <p:sp>
          <p:nvSpPr>
            <p:cNvPr id="86" name=""/>
            <p:cNvSpPr/>
            <p:nvPr/>
          </p:nvSpPr>
          <p:spPr>
            <a:xfrm>
              <a:off x="684360" y="2565360"/>
              <a:ext cx="761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果一次试验中可能出现的结果有      个，而且所有结果出现的可能性都相等 ，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7237080" y="2641680"/>
            <a:ext cx="34596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7080" y="2641680"/>
                      <a:ext cx="34596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" name=""/>
          <p:cNvGrpSpPr/>
          <p:nvPr/>
        </p:nvGrpSpPr>
        <p:grpSpPr>
          <a:xfrm>
            <a:off x="3477600" y="3933720"/>
            <a:ext cx="3651840" cy="990360"/>
            <a:chOff x="3477600" y="3933720"/>
            <a:chExt cx="3651840" cy="990360"/>
          </a:xfrm>
        </p:grpSpPr>
        <p:graphicFrame>
          <p:nvGraphicFramePr>
            <p:cNvPr id="90" name=""/>
            <p:cNvGraphicFramePr/>
            <p:nvPr/>
          </p:nvGraphicFramePr>
          <p:xfrm>
            <a:off x="6745320" y="3933720"/>
            <a:ext cx="384120" cy="99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45320" y="3933720"/>
                      <a:ext cx="38412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477600" y="4086000"/>
              <a:ext cx="104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每一个基本事件的概率都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87280" y="4797360"/>
            <a:ext cx="6400800" cy="1295280"/>
            <a:chOff x="1187280" y="4797360"/>
            <a:chExt cx="6400800" cy="1295280"/>
          </a:xfrm>
        </p:grpSpPr>
        <p:sp>
          <p:nvSpPr>
            <p:cNvPr id="94" name=""/>
            <p:cNvSpPr/>
            <p:nvPr/>
          </p:nvSpPr>
          <p:spPr>
            <a:xfrm>
              <a:off x="1187280" y="479736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某个事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包含的结果有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个，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P(A)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2863440" y="5254560"/>
            <a:ext cx="378000" cy="83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63440" y="5254560"/>
                      <a:ext cx="37800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6140160" y="4949640"/>
            <a:ext cx="45720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40160" y="4949640"/>
                      <a:ext cx="45720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4956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228600" y="609480"/>
            <a:ext cx="8686800" cy="1524240"/>
            <a:chOff x="228600" y="609480"/>
            <a:chExt cx="8686800" cy="1524240"/>
          </a:xfrm>
        </p:grpSpPr>
        <p:sp>
          <p:nvSpPr>
            <p:cNvPr id="103" name=""/>
            <p:cNvSpPr/>
            <p:nvPr/>
          </p:nvSpPr>
          <p:spPr>
            <a:xfrm>
              <a:off x="228600" y="609480"/>
              <a:ext cx="86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集合解释：一次试验中，等可能出现的        结果组成一个集合      ，这    个结果就是集合    中的     个元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7543800" y="609480"/>
            <a:ext cx="48420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43800" y="609480"/>
                      <a:ext cx="484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7848720" y="1143000"/>
            <a:ext cx="409320" cy="533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48720" y="1143000"/>
                      <a:ext cx="40932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4648320" y="1143000"/>
            <a:ext cx="484200" cy="533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1143000"/>
                      <a:ext cx="484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3124080" y="1143000"/>
            <a:ext cx="409680" cy="53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4080" y="1143000"/>
                      <a:ext cx="40968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762120" y="1600200"/>
            <a:ext cx="48420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62120" y="1600200"/>
                      <a:ext cx="484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4" name=""/>
          <p:cNvGrpSpPr/>
          <p:nvPr/>
        </p:nvGrpSpPr>
        <p:grpSpPr>
          <a:xfrm>
            <a:off x="228600" y="2133720"/>
            <a:ext cx="7848720" cy="609480"/>
            <a:chOff x="228600" y="2133720"/>
            <a:chExt cx="7848720" cy="609480"/>
          </a:xfrm>
        </p:grpSpPr>
        <p:sp>
          <p:nvSpPr>
            <p:cNvPr id="115" name=""/>
            <p:cNvSpPr/>
            <p:nvPr/>
          </p:nvSpPr>
          <p:spPr>
            <a:xfrm>
              <a:off x="228600" y="213372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包含     个结果的事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对应    的含有    个元素的子集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6858000" y="2133720"/>
            <a:ext cx="630360" cy="533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858000" y="2133720"/>
                      <a:ext cx="63036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1295280" y="2209680"/>
            <a:ext cx="630360" cy="533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95280" y="2209680"/>
                      <a:ext cx="6303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5334120" y="2209680"/>
            <a:ext cx="409320" cy="533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34120" y="2209680"/>
                      <a:ext cx="40932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2" name=""/>
          <p:cNvGrpSpPr/>
          <p:nvPr/>
        </p:nvGrpSpPr>
        <p:grpSpPr>
          <a:xfrm>
            <a:off x="304920" y="3276720"/>
            <a:ext cx="8153280" cy="1841400"/>
            <a:chOff x="304920" y="3276720"/>
            <a:chExt cx="8153280" cy="1841400"/>
          </a:xfrm>
        </p:grpSpPr>
        <p:sp>
          <p:nvSpPr>
            <p:cNvPr id="123" name=""/>
            <p:cNvSpPr/>
            <p:nvPr/>
          </p:nvSpPr>
          <p:spPr>
            <a:xfrm>
              <a:off x="304920" y="3276720"/>
              <a:ext cx="8153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从集合角度看，事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概率是子集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元素个数与集合   的元素个数的比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P(A)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2438280" y="3733920"/>
            <a:ext cx="409680" cy="5331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438280" y="3733920"/>
                      <a:ext cx="4096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>
            <a:off x="1600200" y="4267080"/>
            <a:ext cx="1752480" cy="851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600200" y="4267080"/>
                      <a:ext cx="1752480" cy="8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" name=""/>
          <p:cNvGrpSpPr/>
          <p:nvPr/>
        </p:nvGrpSpPr>
        <p:grpSpPr>
          <a:xfrm>
            <a:off x="228600" y="5105520"/>
            <a:ext cx="8077320" cy="1307880"/>
            <a:chOff x="228600" y="5105520"/>
            <a:chExt cx="8077320" cy="1307880"/>
          </a:xfrm>
        </p:grpSpPr>
        <p:graphicFrame>
          <p:nvGraphicFramePr>
            <p:cNvPr id="129" name=""/>
            <p:cNvGraphicFramePr/>
            <p:nvPr/>
          </p:nvGraphicFramePr>
          <p:xfrm>
            <a:off x="5486400" y="5562720"/>
            <a:ext cx="1676520" cy="850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486400" y="5562720"/>
                      <a:ext cx="1676520" cy="8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228600" y="5105520"/>
              <a:ext cx="807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例如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面骰子落地时向上的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倍数这一事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概率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P(A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)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3:20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3:55Z</dcterms:modified>
  <cp:revision>36</cp:revision>
  <dc:subject>主题班会课件(分28大类): http://shop62905894.taobao.com</dc:subject>
  <dc:title>主题班会课件(分28大类): http://shop62905894.taobao.com</dc:title>
</cp:coreProperties>
</file>